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D0B-9667-43F5-87C2-3084D0A1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E25-2170-4CDB-8528-4EE4B6BC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35A-A16A-4DDF-820F-20DE0DD6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634-82C0-47BE-9A91-3E3DDBDD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6553-D580-461E-AF59-B5F525C3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B42B-67E4-4099-96CD-57B86724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F68D-ED96-4C54-869C-A2F28A66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BB4C-FA77-4526-8DCB-DD4BD5CF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13A1-5BF2-4112-A2DD-5FF6B8DA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C01C-619F-4C14-9F2A-15E98091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B309-618A-4C6E-9860-B80908E2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67C-55A8-43AB-8405-E9748B2A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EE66-A52E-4356-BB97-DE2E3D18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3843-01CF-4B49-B2FB-AD36B669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9DC3-92E6-41DA-A559-C343E086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789C-18D7-46CB-87B8-A64F7F4A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F9B7-E4CB-4AAC-ABC4-ED09FC37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A4C22-0837-434A-8D84-33383C48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609CE-F832-4404-9238-BAB61E6A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C5776-296A-466A-80F7-1B5AC21E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8B877-6D7D-4FDB-B970-4C7CBBD7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D21C2-B6C4-45AC-B7C2-359FD1C2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359-4665-4361-83DD-64DB8CAF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CF0DE-523B-47CA-BBC1-D9A974C7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51BC7-4272-480B-9536-6EAB1B44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5AE18-6D41-4613-ADEA-95292647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4E323-E866-49FA-9B6D-91CC3965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20447-9967-482B-AD44-C5334173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E9D70-43E9-479C-BA47-BECAA3D3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8F068-4AC9-4B5D-B5AA-94435F69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509BA-8E03-4984-83EE-774E092E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7B622-66FC-4680-82FD-8A92FBF4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6B4F1-7D21-4FDB-9D8A-7E9D4D8B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AE4-2BF2-4305-8E04-DD67BBC2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8CBA4-67FF-4881-A11B-8B0EBD4C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85F54-B89C-4FBC-8633-E2923661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7EB58-CB96-42E2-BF8B-32EC56DE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C9C3-3F35-43C2-AA4D-0FDDE63C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9BF5-326E-452A-8254-0E742B86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F1764-1CE4-44F1-8EC1-295E1983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43BA6-6231-4F23-A144-13F76108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6486D-EF25-487E-AB0B-2AE294D1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C6AA3-05C7-46EC-98FD-E15B856D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7BFEF-EFF1-4036-805C-E7956770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E16-C554-461F-BDCB-DDF1DDB1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6BD18-9CB1-471C-9376-C06DE44C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2F6C60-2E37-4CD8-AE08-9B61E998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4718D-766B-46C7-AE3E-EA363759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8AC5A-53AC-455F-892E-F6505C34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1E349-7574-42BA-BBA9-FF60D29B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D1BE3B-9961-490C-944B-974BBB63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BE5AE8-92B0-4979-9B97-2365A39B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3D09B-F779-4A5F-9EBE-102E9624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9E8AF-3AAB-4691-9654-1753EA14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7A1268-2E0E-4DED-9329-024FFD03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24C-3488-40CC-AAF8-34A64C0F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1D591-2AD5-4295-967D-D507C51D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D37A9D-6EB3-4CB7-BD32-852F28F5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D4972-1C7E-4D91-9686-FF92A670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5E634-54DD-4835-8012-D573C6D8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58A1B-0F96-4C6D-B5CF-F19DB32D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CAE60-7D18-4215-8002-10029EA0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15AE5C-82AE-4F95-9FD4-19DE07B6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9B900-CCD8-4E1B-B760-97A278D1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384455-5351-486A-906D-9DB4B2CE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FD78C-F795-4AD9-9221-4DC67AA1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4A3-6BFC-4D3A-8405-5D3BBECB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7560F6-AC2D-4C4D-B0C4-00B872BE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C1E9C-74F6-412A-8F07-7EDDA789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2C04C-ABC0-4B25-ACCE-80D2E81B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550F1-3200-4E7E-978E-BC9C3399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506A0-F15B-45EE-86B9-7B53038A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C6D19-B739-482A-9036-A0C07E8F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3E0EAD-018B-4AF2-9375-1C541FEC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D69CC2-0BB6-438D-83C2-B95C8724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0903FE-7C63-413B-8DDD-2CE74A10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EF3EFC-6C43-4D9D-990A-96DF25E2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72E-E8D3-461F-8CAC-FC0CDC08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8E70A1-E9B1-46C1-84AA-7B5AAE5A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2E4A18-87A0-43F7-BC3C-39C3634E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A6C66-C907-434F-9474-9BADDC14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2C5FCB-0A1B-475E-9944-54791838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3388A6-3DAA-4120-8CF5-95FE3F15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FAD-A9A6-4F3F-B50C-B45F170A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F2CD-C51B-4340-9E1D-1CD4FC12C6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B3E3-B041-4F72-ADC2-E59E278E1C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4CC8-A3A2-4258-B6B0-4AD8E1B02D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BEDC-B760-4B1D-9B9E-3A24E6A21E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0B3C-8867-4BD9-9C21-D838C25BF5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B8A2-AD9D-42AF-B331-37695293BA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856C-3B7A-45D2-9374-91F312DA15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EMIST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att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C:\Users\Lab1\AppData\Local\Microsoft\Windows\Temporary Internet Files\Content.IE5\90Z2KWW2\MC900441715[1].png"/>
          <p:cNvPicPr/>
          <p:nvPr/>
        </p:nvPicPr>
        <p:blipFill>
          <a:blip r:embed="rId1"/>
          <a:stretch/>
        </p:blipFill>
        <p:spPr>
          <a:xfrm>
            <a:off x="5638680" y="3581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NIT SUMM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learn about the properties of matter, including the skills for measuring the chemical and physical properties of matter. As a group, they will apply this knowledge to a ‘mysterious’ substance. After measuring the properties, they will problem solve (using the engineering and design framework) to find a ‘real world’ use for their substance that would make life easier for someone they know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33360" y="609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ESSENTIAL QUESTION: </a:t>
            </a:r>
            <a:br>
              <a:rPr sz="3000"/>
            </a:br>
            <a:r>
              <a:rPr b="1" lang="en-US" sz="2000" spc="-1" strike="noStrike">
                <a:solidFill>
                  <a:srgbClr val="fff39d"/>
                </a:solidFill>
                <a:latin typeface="Century Schoolbook"/>
              </a:rPr>
              <a:t>WHAT DOES IT TAKE TO CHANGE THE WORLD?</a:t>
            </a:r>
            <a:endParaRPr b="0" lang="en-US" sz="2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742840" y="33526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Unit Question: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Does matter matter?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CONTENT QUESTIONS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5640" y="1904760"/>
            <a:ext cx="60958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What is matter?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How can you measure matter?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What are the chemical properties of matter?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39d"/>
                </a:solidFill>
                <a:latin typeface="Century Schoolbook"/>
              </a:rPr>
              <a:t>What are the physical properties of matter?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44:16Z</dcterms:created>
  <dc:creator>Lab1</dc:creator>
  <dc:description/>
  <dc:language>en-US</dc:language>
  <cp:lastModifiedBy>Lab1</cp:lastModifiedBy>
  <dcterms:modified xsi:type="dcterms:W3CDTF">2010-08-03T20:01:00Z</dcterms:modified>
  <cp:revision>2</cp:revision>
  <dc:subject/>
  <dc:title>Chemistry</dc:title>
</cp:coreProperties>
</file>